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210"/>
        <c:axId val="83244972"/>
      </c:barChart>
      <c:catAx>
        <c:axId val="919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44972"/>
        <c:crosses val="autoZero"/>
        <c:auto val="1"/>
        <c:lblAlgn val="ctr"/>
        <c:lblOffset val="100"/>
        <c:noMultiLvlLbl val="0"/>
      </c:catAx>
      <c:valAx>
        <c:axId val="83244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2FC-37EB-4080-8F74-6E9B9E94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F88-31D6-40DB-8209-2461AAC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796-9BE7-4DB4-8B0F-BF3A8EAF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A32-C965-47A2-AA1A-B3CBDDA7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31B-8E3B-4264-A3A7-82612CD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003-A6D9-448E-9B0C-7012781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8B0-9775-43BA-AADF-EA63910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36A-CB89-489D-A504-E8A36E7A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C8E-7B09-4B01-AEB5-3931A60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152-AEA5-49F5-8AA9-67453BE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D00-FE2E-49F3-8E30-57143A1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D58-8586-458F-9F22-38AE2F7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97AFA-8AA9-472C-B720-0865EDA3F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