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42462"/>
        <c:axId val="64978478"/>
      </c:barChart>
      <c:catAx>
        <c:axId val="90642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8478"/>
        <c:crosses val="autoZero"/>
        <c:auto val="1"/>
        <c:lblAlgn val="ctr"/>
        <c:lblOffset val="100"/>
        <c:noMultiLvlLbl val="0"/>
      </c:catAx>
      <c:valAx>
        <c:axId val="64978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42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5B5-1BAB-4741-937C-C48F6921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0BD-D30F-4DDE-88C9-CAE405D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C11-F5FB-4032-AB15-898968AA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1A1-0ED3-4049-B59E-5E493A98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80B-9E95-4B47-A5DD-8A0ED4B0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939-D8E5-47C2-87E8-F29C9A8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C1E-F7E9-498A-8FAB-E996284D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B6A-0EB7-4268-B6EF-7CB4740E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AC4-0173-467D-9D47-78587F4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AD8-8CA8-4307-99BA-E65DECA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695-AAEB-437A-A7DF-350EE4E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EA2-AA45-4077-AE1F-D238E64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6507-38AD-4D73-8ADA-97A7DDC92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