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7218721"/>
        <c:axId val="34184882"/>
      </c:barChart>
      <c:catAx>
        <c:axId val="9721872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184882"/>
        <c:crosses val="autoZero"/>
        <c:auto val="1"/>
        <c:lblAlgn val="ctr"/>
        <c:lblOffset val="100"/>
        <c:noMultiLvlLbl val="0"/>
      </c:catAx>
      <c:valAx>
        <c:axId val="3418488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21872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1760A-16AD-475A-92E5-E8EB15034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A4DC3-AF26-4467-BCD5-626C1B54D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66D29-6609-45FC-8EBD-DD9CBFA45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F1330-796C-4E7D-8564-2A61B1479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6B1D2-1C79-4A3C-B2C3-7B13E0236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8579E-E8DD-4805-8C88-92523F431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D1F1D-B03A-4376-BC85-53F894D0C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8F3C6-994A-4D3C-A8B6-D8B1AF6E3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85B2B-E80D-4310-A715-E73133769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43BC7-293A-4085-9A07-9E83B2721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8A055-5E4E-432C-ACFC-380131C09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92230-3AA3-4F22-9614-C7E7A6E44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AF2071-D12D-4172-BB8D-531C71A208E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