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3358"/>
        <c:axId val="91951340"/>
      </c:barChart>
      <c:catAx>
        <c:axId val="9633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51340"/>
        <c:crosses val="autoZero"/>
        <c:auto val="1"/>
        <c:lblAlgn val="ctr"/>
        <c:lblOffset val="100"/>
        <c:noMultiLvlLbl val="0"/>
      </c:catAx>
      <c:valAx>
        <c:axId val="91951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3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C10-5FE4-4287-9DFC-F4AF0AF1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ADC-2B80-47B7-A40C-283B42A7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F4F-6CA8-4EFE-A0BF-8245C54F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0F3-FA97-4A9E-9A58-291481CA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39D-F507-4DEA-BC2A-15B5C6F4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7F2-383C-4E0E-916B-833DFCB4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4E3-F1FD-4CFF-9CD4-3925F17C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495-0AB2-49C8-9451-D4D6B6EC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D81-74B9-491F-9E70-763DA0E1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400-4D01-4ECB-AACB-69A89B58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4F5-CCB9-499A-992F-41CCCBC0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21A3-8042-4FA6-930F-52DF55CC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7C665-9715-4134-AFD6-96A2F25508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