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04086"/>
        <c:axId val="21126918"/>
      </c:barChart>
      <c:catAx>
        <c:axId val="99404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26918"/>
        <c:crosses val="autoZero"/>
        <c:auto val="1"/>
        <c:lblAlgn val="ctr"/>
        <c:lblOffset val="100"/>
        <c:noMultiLvlLbl val="0"/>
      </c:catAx>
      <c:valAx>
        <c:axId val="21126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04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CFD-52D1-4B32-90D4-8BB8209F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15E-46AF-40B6-84BB-A53ECCC8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2C9-B725-4544-8AAE-D8A2E475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43B-3A17-4538-A85D-C009B060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D1DA-6AB0-412C-8543-691621D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FD7-9DB0-4F56-BC0D-99488B5A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3BF-101C-4675-B3D2-4BB45F05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AD0-7923-433E-9079-157FED19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A1C-C5FB-457C-AEF4-F402BFC9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1AC-B7C2-478D-9B77-B347671A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5A8-E535-462D-ABEE-1B026339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C37-08D6-411E-8E79-61280DD2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59016-E94D-47D4-B293-F501358264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