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36572"/>
        <c:axId val="42510449"/>
      </c:barChart>
      <c:catAx>
        <c:axId val="96636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0449"/>
        <c:crosses val="autoZero"/>
        <c:auto val="1"/>
        <c:lblAlgn val="ctr"/>
        <c:lblOffset val="100"/>
        <c:noMultiLvlLbl val="0"/>
      </c:catAx>
      <c:valAx>
        <c:axId val="42510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36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28B-5224-45D3-9D0D-3906AEB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7B7-E5D0-4AF4-8332-95843ED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252-E7C3-4DFF-9F94-85BBF3B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DC9-B757-4E38-8E98-B00DB52F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26F-2275-4155-9A21-7AD92E4A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3C7-79EF-4F52-978D-48FE9DB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57C-DB54-40A4-A97D-C43B652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283-A79A-4311-9828-0CD4C8E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78B-2AC0-422F-A72A-FE91512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E52-4025-4E29-A2A1-15574D6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69C-3646-4226-BCD5-D142B38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7E8-5259-4EAB-B56E-950DC7C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E9B32-6CE4-4CC2-A5FE-0A5099FAD8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