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68219"/>
        <c:axId val="24176415"/>
      </c:barChart>
      <c:catAx>
        <c:axId val="86468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76415"/>
        <c:crosses val="autoZero"/>
        <c:auto val="1"/>
        <c:lblAlgn val="ctr"/>
        <c:lblOffset val="100"/>
        <c:noMultiLvlLbl val="0"/>
      </c:catAx>
      <c:valAx>
        <c:axId val="24176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68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8D4D-5D7E-4709-834A-10F8CFB6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A08-3643-4BFA-9C6D-1C8FA0B7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1A5-CA77-466D-9BC3-6345AE9E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26F-0BE6-482F-9FF2-B0EEC1B6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F00-5AA6-4607-A157-7776955C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C81-EBE9-4140-A73C-B3445D89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028-A209-4727-90B1-BFFFF383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DF4-EFB2-4EED-9303-5A114499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6D5-1664-46BF-866D-767DF9E3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DBD-5BB8-4185-A9B4-7E4BFE7E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1A3-1D4A-4941-B61F-52402CFD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F59-555C-498D-A645-97293067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180D9-B1F1-4A44-9A80-A5FD118814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