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2515"/>
        <c:axId val="97141159"/>
      </c:barChart>
      <c:catAx>
        <c:axId val="1602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1159"/>
        <c:crosses val="autoZero"/>
        <c:auto val="1"/>
        <c:lblAlgn val="ctr"/>
        <c:lblOffset val="100"/>
        <c:noMultiLvlLbl val="0"/>
      </c:catAx>
      <c:valAx>
        <c:axId val="97141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250-276B-47F2-96FB-1321838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C27-2506-43F8-8F4F-B6BB69E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F78-E065-4488-8B20-2F0A0150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C61-9AE3-4B40-BD0F-677E2A38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42E-A8EB-4595-8F8A-6CE1C4B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4D8-A78C-4B51-BE19-09FD786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8F6-2693-4F1F-8138-7013608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2E4-9122-4763-8603-5E133A9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090-6C69-4B16-8580-24D3E9AA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3D4-E3FE-4B15-A4C0-0434EE9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668-6F42-41AF-ADCA-6DEC240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7C9-17C9-47F3-B1EE-73F3655C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19E50-AABD-4FF2-B761-0541BFB10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