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819429"/>
        <c:axId val="13674544"/>
      </c:barChart>
      <c:catAx>
        <c:axId val="698194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674544"/>
        <c:crosses val="autoZero"/>
        <c:auto val="1"/>
        <c:lblAlgn val="ctr"/>
        <c:lblOffset val="100"/>
        <c:noMultiLvlLbl val="0"/>
      </c:catAx>
      <c:valAx>
        <c:axId val="136745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8194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3D4C-E4F3-4668-947E-5188512E8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7821-C6FC-4A93-A28E-7C85D03F5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1590-47C4-4200-8C2B-7DD98719A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221B-F92E-49AF-BFFA-BB91D0733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3561-3AD8-4079-B2BE-69104F653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BC61-7A56-460F-A325-B3DF6F201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891D-7B6A-4BC9-8FCE-C7E47DFCC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7DBC-40F0-4B42-B470-4058BD427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E52C-1C2F-49F6-8633-25707CC8A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774A-8F2F-4FC8-802D-C2C8AB94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988D-8B18-478D-85A7-16EAED3E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6970-FF75-4D2B-A33F-59B91E5F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826BC0-98C0-4F6B-808A-030F34D6582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