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67613"/>
        <c:axId val="80245389"/>
      </c:barChart>
      <c:catAx>
        <c:axId val="92467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45389"/>
        <c:crosses val="autoZero"/>
        <c:auto val="1"/>
        <c:lblAlgn val="ctr"/>
        <c:lblOffset val="100"/>
        <c:noMultiLvlLbl val="0"/>
      </c:catAx>
      <c:valAx>
        <c:axId val="80245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67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155-E8E7-4273-A6BE-68553DDD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8B5-4429-4B28-A5F8-D8D4B666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18D-488D-42F7-B90A-0962E33A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20E5-6586-485F-B8FA-F3B7208A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BD8-F657-4A7C-86AB-A042366A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81D-00A1-4B2C-8C6F-73DDCDDB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750-B2EB-452C-A9D2-6B38C1F2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391-2E29-477D-AADA-18C4FB7C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264-5B55-41DA-9D3D-B4B28EFC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662-0548-4CFC-B6BA-9B6581DF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B39-A155-4CE8-828A-F630DC9D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56E-6501-4E8E-903C-52859C9B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A6F3B-3041-44D4-8666-A143BC83DC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