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2176"/>
        <c:axId val="69889966"/>
      </c:barChart>
      <c:catAx>
        <c:axId val="5682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9966"/>
        <c:crosses val="autoZero"/>
        <c:auto val="1"/>
        <c:lblAlgn val="ctr"/>
        <c:lblOffset val="100"/>
        <c:noMultiLvlLbl val="0"/>
      </c:catAx>
      <c:valAx>
        <c:axId val="69889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2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1CB-1D02-4CA9-B01B-0A27FC44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096-D467-4481-890C-48F9E3A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CCE-2AF1-471A-B892-E14F89B2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415-5623-48EB-93AE-37D54493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522-A8E4-49EE-BCC0-51F749E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037-EFD2-4E9A-9524-1E1E825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613-C14F-493D-9AC4-5B78CDC6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5BE-964C-4662-83BD-E7C6A65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EC9-73DF-45C3-8B88-143EF62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ABC-27AD-4B94-B9E1-F07271C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F58-3E67-4479-A658-EF0E1F2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000-DC34-4916-A017-F7451ABF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76A57-D304-4330-801E-5DC33C1916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