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0727"/>
        <c:axId val="31772034"/>
      </c:barChart>
      <c:catAx>
        <c:axId val="7940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2034"/>
        <c:crosses val="autoZero"/>
        <c:auto val="1"/>
        <c:lblAlgn val="ctr"/>
        <c:lblOffset val="100"/>
        <c:noMultiLvlLbl val="0"/>
      </c:catAx>
      <c:valAx>
        <c:axId val="31772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934-9A59-414B-BBE7-F65D0010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494-F0D6-4BDF-9C5F-4A1E0BF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57F-B491-4AC0-8904-23ECEBB5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0E7-0847-4998-B8CF-40F6EB5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EA4-C3BA-44C9-9ED1-4E0EFAB3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01A-9C92-47D6-8478-C49E318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B1D-3969-42F6-A907-61412ECE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3A1-B56F-4AC9-9FCA-792606C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E9A-5F30-4486-8FC7-D33936C5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E1D-E262-4810-A60C-752D146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1AA-A16D-45D9-82E8-F2C0F75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B67-B971-430D-AB35-4D7EB96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D522B-14A4-4C9C-838A-CADF88607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