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38183"/>
        <c:axId val="80453912"/>
      </c:barChart>
      <c:catAx>
        <c:axId val="97738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53912"/>
        <c:crosses val="autoZero"/>
        <c:auto val="1"/>
        <c:lblAlgn val="ctr"/>
        <c:lblOffset val="100"/>
        <c:noMultiLvlLbl val="0"/>
      </c:catAx>
      <c:valAx>
        <c:axId val="80453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8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DA3-E68D-4AC8-AD35-DF63F9F1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771-D01F-4683-962D-8A172F8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9FB-2DEB-48F3-AC8B-697AC803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4BD-D60A-4F2B-995E-BBC07F75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221-1F04-44FF-8C46-8263B03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195-AF51-4922-9852-4A24A60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A74-D9E5-4477-AE4D-E018301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20F-A3E1-4754-BF38-E6AC1057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FCB-93A1-4056-92F5-D85BC7DE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54-CE17-4C32-996E-72310235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056-BDFE-465B-85D1-2A20064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50D-69AD-42E1-878F-FA36F7E6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FABDF-18DD-47AB-9CFC-DCEDD5EC86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