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21355"/>
        <c:axId val="99579099"/>
      </c:barChart>
      <c:catAx>
        <c:axId val="46421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79099"/>
        <c:crosses val="autoZero"/>
        <c:auto val="1"/>
        <c:lblAlgn val="ctr"/>
        <c:lblOffset val="100"/>
        <c:noMultiLvlLbl val="0"/>
      </c:catAx>
      <c:valAx>
        <c:axId val="99579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21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854-0EF1-4617-8A99-8B5127C9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247-3ACE-48D8-8E4D-D00A4C11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C3E-EFBA-4C53-9CB3-F4160533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19E-1796-4EFA-A56D-2B205C88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894-340F-470E-B4B9-728CFAC6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13A-7F19-4C25-AA62-9F56166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930-5D7B-4A8E-9B65-F991B26E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EFE-2E2A-4E05-952D-76608EFD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EBA-01EB-457C-81CA-3DFB85B8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B71-4822-41CA-AF3E-BDC48EF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790-C468-4876-8634-1693907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847-0E42-4753-8D1A-C970175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6B45E-8AC7-48B1-97C3-2A4130943B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