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221352"/>
        <c:axId val="15066596"/>
      </c:barChart>
      <c:catAx>
        <c:axId val="592213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66596"/>
        <c:crosses val="autoZero"/>
        <c:auto val="1"/>
        <c:lblAlgn val="ctr"/>
        <c:lblOffset val="100"/>
        <c:noMultiLvlLbl val="0"/>
      </c:catAx>
      <c:valAx>
        <c:axId val="150665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213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44C0-3E70-4F08-A45C-D4598676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A08E-46AF-46C0-8AA2-7C8B1520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331F-51D9-48D5-AAD5-52B712F7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E31D-C967-497B-B6C5-1199CF9C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B8B4-3CFC-4811-844B-021C60C2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BC44-CF45-4623-82AB-90122EFD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818B-01E9-4A7C-A730-A1FB22BB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A7A5-0847-4AAD-A97A-AAAA2625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1E98-8AA8-4EDD-95BC-8E7D54BC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8C57-6CB6-409C-A812-67514E64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074A-5946-422B-BF9C-068C13B0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C85D-FE27-44E2-BBF1-187506CD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02CEB-6451-4AD0-AC16-52E03A2D94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