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98795"/>
        <c:axId val="65842423"/>
      </c:barChart>
      <c:catAx>
        <c:axId val="77298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42423"/>
        <c:crosses val="autoZero"/>
        <c:auto val="1"/>
        <c:lblAlgn val="ctr"/>
        <c:lblOffset val="100"/>
        <c:noMultiLvlLbl val="0"/>
      </c:catAx>
      <c:valAx>
        <c:axId val="658424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98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A41-3736-466F-8F70-F2D82BB6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BD4-3F63-43B6-B3B6-0A368647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F976-7E40-42BB-933E-4AA27FC8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F48-D08E-4075-9D72-6F1EA45F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6B9-BE91-4323-9DBE-AB5459FE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46E1-9D55-45DB-B23D-DC3E812C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FBC4-27F4-4FF6-8D0D-BCF3348C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C88-AB6B-4517-B00A-59A8CEB2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BA6-000A-45ED-B2BC-F30F4951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61C5-13EE-4885-BD64-E52CA4E1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A70B-BE71-49E0-B6B5-E52B7D56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2C5-1926-43AA-BB52-7E62DE5C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46E9D-B47E-4973-8251-5720701BFF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