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98397"/>
        <c:axId val="1316433"/>
      </c:barChart>
      <c:catAx>
        <c:axId val="53498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6433"/>
        <c:crosses val="autoZero"/>
        <c:auto val="1"/>
        <c:lblAlgn val="ctr"/>
        <c:lblOffset val="100"/>
        <c:noMultiLvlLbl val="0"/>
      </c:catAx>
      <c:valAx>
        <c:axId val="13164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98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E6C-70BE-49B4-A93A-2F7CDC4B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6A9-7050-48B6-A949-B7BEAF05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2365-147A-4A97-9B9D-580978C9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E93-B983-44C9-8F06-8856DA50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020-0EA7-4950-AE43-E901D909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82E-1FEB-4629-AAF2-D96F57FD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9B3E-7058-4BB4-880A-8AEC0675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198-C79E-4FFB-9A73-2C0CD718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8AB-49B6-4914-B433-E6FAECD3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1FEC-D085-4358-9E06-F65C2EF9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D60-7CDF-489E-8FBD-FA860743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3BEA-86F3-429B-B893-CFF095E9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8E461-A8D7-44D3-9BAC-5708D0A930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