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8534E95-3599-4F01-95F8-6341EA783C55}"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B0B555C-9385-4B17-826F-24DBF6B6875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7DE1670-F616-4B33-8211-81A2042E11F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B0BA43B-90BB-4A06-A5ED-8756AF48D2F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BA7E833-8993-44D4-A90C-C1686EEB310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7DB4257-83F6-4C46-9B57-C3C4A749711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7B675C2-B238-401A-AFB3-BBE4CBB7337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644DFC6-4BD9-42E2-813C-7DD64E1AF9E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AD739A0-C819-4294-962C-BFF99B34D2A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65B64A5-113E-4004-8F35-FFB8EE9B2EF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C27AB44-0F70-4FE8-931C-CD6721DFB86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B526AB5-F4FC-4EB7-BC50-D6522C98237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111324D-835E-4018-A77F-30603CC860D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2DDEC0D-C718-4D5A-AB6C-D7998A3CA94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A230EA9-AE3D-4AA1-88AE-465901B7CE1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F95F9E5-6A9D-4F4F-BE9D-2ED1228FE48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0A5E422-11DD-43B3-B1F2-9843B60AC9E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2A2EBCF-DCCE-4AC0-841E-F2A7697B53D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21A040E-C58D-4163-AC13-EFB013FFDEC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922FE48-4889-4FA2-A050-E0D8870BECA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1B87902-AFDD-490D-B17F-06509AC81FA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C670AF7-EC2C-42DC-8336-7F787602F04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8059D35-2D2F-4A5A-92E6-2A05D22F6FB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E986E07-57E1-4ECD-8767-E3109DF94C8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B7F5401-67B6-4E59-8300-22BD0D330E6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3AFB21C-8C08-4CC4-9AF2-281FE3E2501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A9CC9-8CBC-48A3-A939-8764B988B04B}"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27094-75E8-4F66-8858-921A20D396B8}"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38FE5D1-C854-408A-AA4F-974B2D720621}"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4E4B46C-42F6-422B-BA9D-3E0D5E52EC77}"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987C0DF-F876-4B6B-B9A0-F60839F86C07}"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4BF35D1-C257-47AF-9B73-145809FD136B}"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10EC9D4-8657-4684-8686-261CCED25D1D}"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760913B-FED1-480B-A462-E375321F2A73}"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88156B0-B4B9-4025-A0C7-9A91809C56DA}"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2B2D070-20F1-4AA9-9E02-5802371A1E8A}"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839DD70-0A24-46DB-B7CE-AECC00F48FFD}"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FD4D49D-B742-45BF-A67D-D25330F233BA}"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58E08E7-9869-450F-A704-18C515E4CD3E}"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BE2AEB7-A793-4994-AA5F-75B14B5EA0F9}"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91F6542-7B52-4095-9DBB-F95D8E6C8DC8}"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9A83236-C1BA-405B-BD64-570A527A4C83}"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C91C4FA-EA21-4862-B87F-4AE778F22C60}"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86284AB-3C72-43C9-8163-6C22B8FB8D3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8AEFB88-E499-4DE7-AE08-D9CF2A9C2892}"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E7BDB61-71D2-4240-BEF4-F5EFA38AD91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C8A69158-ED72-4352-B5E8-70AADEFE0CA7}"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F098D2F-5156-4B11-8263-494560FA2511}"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FA96E19-BEFD-4006-A0AE-2F5126CE61B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646F434-8AFE-42E0-AE58-6643F347EEA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6BC1739-F181-4BFF-9651-030A5003CDB8}"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0195829-CE71-4E59-BF24-6FFBEAAEF23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1CC3B0C-6A45-42F3-94E9-7240F0BE165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DDE1EA8-158A-4E99-9B37-7F81E404B98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4FA2DC0-B804-45CB-A5DC-FC600D8AF508}"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D60C7DB-7E6C-41AB-B1F7-982BAD53188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F4664A4-F092-4C40-BFDE-E36A652299C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F00A56A-A913-4B92-A56B-420B5B7162C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C9D55E7-EF26-4FBA-9C85-D34A2F720229}"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DE6399C-7C5A-4BC8-9523-888DC850300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0FF4D12-344E-4C62-A0B9-5BD21E6B6E8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6BCBFD5-C86E-43B7-BFDA-B0B29D0D8C26}"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30C315B-DF6E-4355-8011-89CE8BE876B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FABF8CB-BBA9-4B2B-BC9C-703F1462808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96B82DA-BB00-447F-BC33-611ACC52D62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A1EBBC1-640C-45FE-A92F-0239689C3BA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82780D8-1C44-40DE-BCA7-857713ADCB38}"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93E5038-DF63-40E4-ABF6-19FC0ABF0709}"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E734486-2EC6-4249-AABB-E06711F99AE7}"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CCBA5F5-5A27-4886-83E7-6BC733AE0D13}"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F30AF17-9774-48CB-B6F3-D320ECC76814}"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73B61FA-234C-419A-9169-0906FB6F4972}"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594A1CC-421F-4869-8CF0-FDBB15CFF5AF}"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E3EB7A4-8FF1-40C0-9963-B9C86EBB9B20}"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9611866-6F7C-4885-939F-3499026F3949}"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5AB37EE-B982-4862-99BF-2E02AA0417EF}"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43A19FB-FB85-47F1-BEC8-EFB50E413F76}"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1990F49-9E4E-4023-82A9-620F627FE526}"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C0260FB-CF16-4098-BE94-A2C5516EC6CE}"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06E5FF9-3D5C-46C5-B56C-5F00D56464A4}"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CF600BF-01E8-4E0C-84BF-68B9CB9C7CD9}"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97D041E-47F2-416B-BEBF-C909746BDED7}"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BBFC69F-F396-4566-A15E-F7BA53613877}"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1808D32-30C3-4876-9A13-45E704EFC080}"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29D6E67-E095-4366-BAB3-53A3049BC5A4}"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1A1CD09-D1AF-4671-941A-D280EF53A0D7}"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EB7F9CD-A28D-437B-9C6F-FA3648F9EF3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B69CA23-69EA-4754-B2F4-0B6E7C34956A}"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001B539-5E41-4B21-A0B2-255B8C34878B}"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51516ED-0696-4719-A31B-175D2B4E9630}"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616E519-0527-4800-8C43-6DA09E2EB5BB}"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53B145A-FA19-4350-9EEA-43F9071D171B}"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941246D-520E-4945-A22E-B9CDB3DD8EBC}"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266E55B-7B93-4745-B3DA-2FB910DF55DF}"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A1E3885-8148-47A1-9F9D-A8F527428DA3}"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B5F3365-D643-459D-B25E-CEA530E8F365}"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74AAD27-9CA1-4AC7-BC7D-3AF330E73289}"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742D6F0-3769-4195-96DF-AB7FD10F4BB5}"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D53E5EE-CB1C-41F7-ABAB-E75A076FE9D5}"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0DA4312-14D1-4E33-85D6-82DE9DCB628A}"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B2A27FB-1182-4AF2-81B4-5A2D3900AD77}"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B7398E9-A6DF-4B23-97BA-8208D10128C1}"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0DC11E8-7CBD-4218-B10E-6274F24875B3}"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A087D67-78FE-4EE7-AF4E-E3978DA1492A}"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970C5E8-6FBF-4C5E-B409-8A40FB0EBC49}"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323FE35-BD00-45EE-9D69-746311D45F84}"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BF414C9-66B7-4465-913B-1631DE2CCBFC}"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2EF4BA4-CFB2-4806-A757-F784CA66CC40}"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DF893FC-8162-4994-BE7A-2C00F9895B68}"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E114277-BC5A-4B92-8C23-57080AE51924}"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8683E56-2383-4132-A2D6-1D44B7D055B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A90966A-23E7-4EDA-A1E3-6D165865448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9B05707-D1EC-4FB8-A69D-D1DD6B1B990C}"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618863C-A8FB-4BB3-BE15-2F5881346D9C}"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9040560-C7C8-4AEC-857A-24203858E322}"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307F9DE-BC31-4CF2-BF46-63478022FBFE}"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6798DA1-C253-4C57-92B7-815DA85715DA}"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86A1657-D8E7-4126-8B50-DD09D37903C5}"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A63DADD-28DC-477C-982E-21DFB717157E}"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E0AD7C7-0B9C-4621-BC68-BB6222AD84A1}"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650AF71-3756-4657-84EA-C3282993BF83}"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4BDC69F-E91E-46D9-AEF6-51141AC6FA83}"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F838F709-EFF6-4DE7-9188-89D9E7F0F13E}"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BEFA17E-9394-49FA-84D5-AFBB49CE57CF}"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9C2F9FB-9B1D-4125-A73A-FEE5BBDAEC60}"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3CB913F-99B6-40E0-8B69-C73D7CEE42CA}"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61491F8-E138-4C04-A79D-1A069A4A2FF6}"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3324637-EB70-47E1-93A4-2E7ED4A3541F}"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B537BAB-9C45-4218-B202-58CA8F1A5251}"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F80AF1D-0053-4084-AFF1-0A14C2B5BA72}"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E7D553A-F7AB-408D-9C6B-6A4B469EB01D}"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6672C78-0A1E-45F5-BBCB-DF310633E30B}"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B76CBD5-508A-4EEC-8976-94F8C4522421}"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3C20C82-0F76-4259-8DDA-999CEE9C5971}"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E6308077-AD78-4B0D-8D4D-65CAD6763C89}"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D8BE47B-AE7D-423B-B1EC-8D014DCD3642}"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D5E44DC-2A46-41BE-83D2-27508728BA03}"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1AA0844-F2AA-4636-93DF-E0765CCAB1CB}"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32571F7-3A83-492E-B001-9DAF08ADE08B}"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63BE37E-C852-4841-AF4B-46809E24A5DD}"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