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49220"/>
        <c:axId val="50165907"/>
      </c:barChart>
      <c:catAx>
        <c:axId val="57249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5907"/>
        <c:crosses val="autoZero"/>
        <c:auto val="1"/>
        <c:lblAlgn val="ctr"/>
        <c:lblOffset val="100"/>
        <c:noMultiLvlLbl val="0"/>
      </c:catAx>
      <c:valAx>
        <c:axId val="50165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9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8B8-2EDE-4B6C-AB1D-86DF398F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96B-DDAF-4A46-9D69-F7CE1C4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3B5-E0CE-4D9F-84EE-1794E62F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A64-FDA7-4B74-BD97-07025246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2C4-55EA-48B0-A0D7-1C3D075C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664-930B-4E76-ABFB-72AC2CA1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BF5-87AB-4B01-8204-12E6C330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D93-28FA-4B12-B7DA-712E26A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18F-F667-43D7-B036-6603EDA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867-D462-497E-BFE3-937FAC1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CBB-195B-4D73-A5D1-31CF357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50C-19E8-44D4-A109-3F3C0C8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6DF9-26D5-440B-9DDC-0469C1E03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