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81527"/>
        <c:axId val="81367170"/>
      </c:barChart>
      <c:catAx>
        <c:axId val="40981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67170"/>
        <c:crosses val="autoZero"/>
        <c:auto val="1"/>
        <c:lblAlgn val="ctr"/>
        <c:lblOffset val="100"/>
        <c:noMultiLvlLbl val="0"/>
      </c:catAx>
      <c:valAx>
        <c:axId val="81367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81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69F-0764-4DB3-BCD4-32EC4FBA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593-C07A-485D-BB18-E69E65ED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085-D9DB-4C75-8AE5-266C1CB6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6BD-4219-4724-A6C8-F7A62C75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46A-015C-482C-A2E6-599266B4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F42-2F9D-43DD-8544-FEB142AF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CD6-E135-4A4E-9FBC-DF42E87F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6FA-CB43-46FA-89D5-C78353CD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BC6-204D-4C61-9D1F-AC6E0DA2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DC2-8648-45B9-8970-27C3E04E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C8A-7DE7-49F6-9940-972397E8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D33-D6F8-4B49-ACF1-ECDA3C7B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FFBD6-C038-4331-A30F-F56A883747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