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122"/>
        <c:axId val="8380959"/>
      </c:barChart>
      <c:catAx>
        <c:axId val="261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959"/>
        <c:crosses val="autoZero"/>
        <c:auto val="1"/>
        <c:lblAlgn val="ctr"/>
        <c:lblOffset val="100"/>
        <c:noMultiLvlLbl val="0"/>
      </c:catAx>
      <c:valAx>
        <c:axId val="838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A53-6323-480D-92B3-F6BD623B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75F-2224-4D8A-9C4A-423BA5D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6DB-CBFD-46ED-A602-BF1529C7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564-F91D-4041-BC95-11DCE5B4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B4A-848F-481E-9F12-4E44F85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80D-1155-4577-B1F3-F6B09FA8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CA6-EE35-43D2-B220-8D8AD06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554-940F-4F9C-A245-21EBE3FF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89E-5FDD-4976-86CF-22BFB8F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35C-F650-4B35-A4C5-E09A7B1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EF7-A54D-4304-A53B-0424999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D73-0BE2-4472-97D2-24AAADA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14DE1-E961-4AE2-A7C3-FFC30D59B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