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48311"/>
        <c:axId val="43160957"/>
      </c:barChart>
      <c:catAx>
        <c:axId val="40748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0957"/>
        <c:crosses val="autoZero"/>
        <c:auto val="1"/>
        <c:lblAlgn val="ctr"/>
        <c:lblOffset val="100"/>
        <c:noMultiLvlLbl val="0"/>
      </c:catAx>
      <c:valAx>
        <c:axId val="4316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8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2AE-71B8-4758-9307-193C4C8F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054-CE8C-4D28-A6C6-AACA5EC4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8F7-F246-474F-8CC7-7E6558F4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EC0-C61B-41D0-B22B-ACAA14B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9F0-8362-40DF-B0F0-E1CD9EA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F72-EA9D-4437-827E-7313243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532-CA8B-4398-AA37-B25E57AC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F6E-3F82-476D-B333-B11E1D3C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91C-8EB4-42C1-80E3-80599A1F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0D3-C911-40AE-B0A4-89E3DC8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6E6-F6EA-4F32-B0B5-8E1BA415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6EF-A1E2-4E8C-AD25-92210A3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85F1-531E-4D31-A13D-62BC75438F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