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75656"/>
        <c:axId val="88947577"/>
      </c:barChart>
      <c:catAx>
        <c:axId val="78975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47577"/>
        <c:crosses val="autoZero"/>
        <c:auto val="1"/>
        <c:lblAlgn val="ctr"/>
        <c:lblOffset val="100"/>
        <c:noMultiLvlLbl val="0"/>
      </c:catAx>
      <c:valAx>
        <c:axId val="88947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75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B51-A22E-4979-BA22-45D749CA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B6F-9487-490F-9503-7EC49555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79F-A724-49FB-B115-5D04F7A3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9F3-E147-4BED-817A-97FFAB4C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DE8-95C8-43AD-BC22-3C6AEBFA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3FB-53C0-47C2-AC8C-9003C309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085-1193-40FA-9A0C-B48B0BAB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979-592A-4B63-A0F3-A3E157F6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25D-3060-407B-8C1A-C39C5B2B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AF0-E24A-4B4B-B652-27419DEB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7E9-3681-4FBE-9111-8DA7C94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11E-95F8-4085-85E0-B608A9B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39F1E-2704-493E-8B39-3E8AFB0040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