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31449"/>
        <c:axId val="73563071"/>
      </c:barChart>
      <c:catAx>
        <c:axId val="85831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63071"/>
        <c:crosses val="autoZero"/>
        <c:auto val="1"/>
        <c:lblAlgn val="ctr"/>
        <c:lblOffset val="100"/>
        <c:noMultiLvlLbl val="0"/>
      </c:catAx>
      <c:valAx>
        <c:axId val="73563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31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FEA-06AC-489B-BE8C-9BA88F91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493-1EF5-4310-B765-1E43A1DF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233-DBC0-4493-95FB-06746904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F6F-9A43-430E-8E07-B6E6F6A2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946-2376-45BB-8FE8-A55BCD08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289-A257-4691-9D50-5CF25FAA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65B-7A47-4447-A595-B70A7163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0DE-6398-4676-93D2-12D59FD0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69D-1552-4AC2-9BD3-93648AC1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4A8-A38B-4997-9EC0-A6380190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55A-834B-406C-9CEF-85B48646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282-74B1-442D-877A-E3D85DB2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D713E-F5A5-4E0A-AADC-A1FA6018B1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