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F9B25-E5CF-4590-A3F9-F5461C469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F1871-4AD1-478F-871F-B132CDABD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899F9-A2AE-4CC8-B247-F65657835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81041-0680-461C-B628-75CE54584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ED575-0924-47D0-A08A-D5C0F7350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185A8-8354-4036-A810-3B0A8AB63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1785E-DA45-46D1-B5A1-B742087E2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96249-C32A-40F8-B73A-9CEADBC95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0FFAE-8B91-4B2A-A40F-F5C11C334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FCA90-3736-48D2-9C85-683C4B23C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588B4-D247-4AA7-9B0F-E751A18AB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86403-C9A4-4DC1-B4D5-369F0732F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F2C96-A0AD-42CC-99CD-0A93FA6A0006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Cus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43200" h="21600">
                <a:moveTo>
                  <a:pt x="16073" y="3985"/>
                </a:moveTo>
                <a:lnTo>
                  <a:pt x="23071" y="3985"/>
                </a:lnTo>
                <a:lnTo>
                  <a:pt x="27127" y="7484"/>
                </a:lnTo>
                <a:lnTo>
                  <a:pt x="27127" y="17615"/>
                </a:lnTo>
                <a:lnTo>
                  <a:pt x="16073" y="17615"/>
                </a:lnTo>
                <a:close/>
              </a:path>
              <a:path fill="darken" w="43200" h="21600">
                <a:moveTo>
                  <a:pt x="23071" y="3985"/>
                </a:moveTo>
                <a:lnTo>
                  <a:pt x="27127" y="7484"/>
                </a:lnTo>
                <a:lnTo>
                  <a:pt x="23071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8406"/>
                </a:moveTo>
                <a:lnTo>
                  <a:pt x="19024" y="8406"/>
                </a:lnTo>
                <a:lnTo>
                  <a:pt x="23445" y="3794"/>
                </a:lnTo>
                <a:lnTo>
                  <a:pt x="23445" y="17806"/>
                </a:lnTo>
                <a:lnTo>
                  <a:pt x="19024" y="13194"/>
                </a:lnTo>
                <a:lnTo>
                  <a:pt x="14594" y="13194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28606" y="10800"/>
                </a:lnTo>
              </a:path>
              <a:path fill="darken" w="43200" h="21600">
                <a:moveTo>
                  <a:pt x="25099" y="8406"/>
                </a:moveTo>
                <a:lnTo>
                  <a:pt x="28606" y="5639"/>
                </a:lnTo>
              </a:path>
              <a:path fill="darken" w="43200" h="21600">
                <a:moveTo>
                  <a:pt x="25099" y="13194"/>
                </a:moveTo>
                <a:lnTo>
                  <a:pt x="28606" y="15961"/>
                </a:ln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S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301"/>
                </a:moveTo>
                <a:lnTo>
                  <a:pt x="15507" y="7301"/>
                </a:lnTo>
                <a:lnTo>
                  <a:pt x="15890" y="7667"/>
                </a:lnTo>
                <a:lnTo>
                  <a:pt x="25099" y="7667"/>
                </a:lnTo>
                <a:lnTo>
                  <a:pt x="25656" y="8224"/>
                </a:lnTo>
                <a:lnTo>
                  <a:pt x="25656" y="8772"/>
                </a:lnTo>
                <a:lnTo>
                  <a:pt x="27501" y="8772"/>
                </a:lnTo>
                <a:lnTo>
                  <a:pt x="27867" y="8224"/>
                </a:lnTo>
                <a:lnTo>
                  <a:pt x="28606" y="8224"/>
                </a:lnTo>
                <a:lnTo>
                  <a:pt x="28606" y="13376"/>
                </a:lnTo>
                <a:lnTo>
                  <a:pt x="27867" y="13376"/>
                </a:lnTo>
                <a:lnTo>
                  <a:pt x="27501" y="12828"/>
                </a:lnTo>
                <a:lnTo>
                  <a:pt x="25656" y="12828"/>
                </a:lnTo>
                <a:lnTo>
                  <a:pt x="25656" y="14107"/>
                </a:lnTo>
                <a:lnTo>
                  <a:pt x="16073" y="14107"/>
                </a:lnTo>
                <a:lnTo>
                  <a:pt x="16073" y="9877"/>
                </a:lnTo>
                <a:lnTo>
                  <a:pt x="15890" y="9877"/>
                </a:lnTo>
                <a:lnTo>
                  <a:pt x="15507" y="10243"/>
                </a:lnTo>
                <a:lnTo>
                  <a:pt x="14594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Mov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837"/>
                </a:moveTo>
                <a:lnTo>
                  <a:pt x="24176" y="6448"/>
                </a:ln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lnTo>
                  <a:pt x="28563" y="10800"/>
                </a:lnTo>
                <a:lnTo>
                  <a:pt x="26909" y="10800"/>
                </a:lnTo>
                <a:lnTo>
                  <a:pt x="26909" y="17989"/>
                </a:lnTo>
                <a:lnTo>
                  <a:pt x="16291" y="17989"/>
                </a:lnTo>
                <a:lnTo>
                  <a:pt x="16291" y="10800"/>
                </a:lnTo>
                <a:lnTo>
                  <a:pt x="14637" y="10800"/>
                </a:lnTo>
                <a:close/>
              </a:path>
              <a:path fill="darkenLess" w="43200" h="21600">
                <a:moveTo>
                  <a:pt x="24176" y="6448"/>
                </a:move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close/>
              </a:path>
              <a:path fill="darkenLess" w="43200" h="21600">
                <a:moveTo>
                  <a:pt x="20677" y="14299"/>
                </a:moveTo>
                <a:lnTo>
                  <a:pt x="22523" y="14299"/>
                </a:lnTo>
                <a:lnTo>
                  <a:pt x="22523" y="17989"/>
                </a:lnTo>
                <a:lnTo>
                  <a:pt x="26909" y="17989"/>
                </a:lnTo>
                <a:lnTo>
                  <a:pt x="26909" y="10800"/>
                </a:lnTo>
                <a:lnTo>
                  <a:pt x="16291" y="10800"/>
                </a:lnTo>
                <a:lnTo>
                  <a:pt x="16291" y="17989"/>
                </a:lnTo>
                <a:lnTo>
                  <a:pt x="206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43200" h="21600">
                <a:moveTo>
                  <a:pt x="22705" y="14281"/>
                </a:moveTo>
                <a:lnTo>
                  <a:pt x="22705" y="12323"/>
                </a:lnTo>
                <a:cubicBezTo>
                  <a:pt x="22705" y="11496"/>
                  <a:pt x="23036" y="10800"/>
                  <a:pt x="23637" y="10800"/>
                </a:cubicBezTo>
                <a:cubicBezTo>
                  <a:pt x="24768" y="10800"/>
                  <a:pt x="25665" y="9434"/>
                  <a:pt x="25665" y="7849"/>
                </a:cubicBezTo>
                <a:cubicBezTo>
                  <a:pt x="25665" y="5534"/>
                  <a:pt x="23811" y="3794"/>
                  <a:pt x="21600" y="3794"/>
                </a:cubicBezTo>
                <a:cubicBezTo>
                  <a:pt x="19389" y="3794"/>
                  <a:pt x="17718" y="5534"/>
                  <a:pt x="17718" y="7849"/>
                </a:cubicBezTo>
                <a:lnTo>
                  <a:pt x="19572" y="7849"/>
                </a:lnTo>
                <a:cubicBezTo>
                  <a:pt x="19572" y="6709"/>
                  <a:pt x="20495" y="5821"/>
                  <a:pt x="21600" y="5821"/>
                </a:cubicBezTo>
                <a:cubicBezTo>
                  <a:pt x="22705" y="5821"/>
                  <a:pt x="23637" y="6709"/>
                  <a:pt x="23637" y="7849"/>
                </a:cubicBezTo>
                <a:cubicBezTo>
                  <a:pt x="23637" y="8589"/>
                  <a:pt x="23167" y="9320"/>
                  <a:pt x="22705" y="9320"/>
                </a:cubicBezTo>
                <a:cubicBezTo>
                  <a:pt x="21600" y="9320"/>
                  <a:pt x="20495" y="10800"/>
                  <a:pt x="20495" y="12323"/>
                </a:cubicBezTo>
                <a:lnTo>
                  <a:pt x="20495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43200" h="21600">
                <a:moveTo>
                  <a:pt x="216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43200" h="21600">
                <a:moveTo>
                  <a:pt x="19024" y="8224"/>
                </a:moveTo>
                <a:lnTo>
                  <a:pt x="22888" y="8224"/>
                </a:lnTo>
                <a:lnTo>
                  <a:pt x="22888" y="15221"/>
                </a:lnTo>
                <a:lnTo>
                  <a:pt x="24176" y="15221"/>
                </a:lnTo>
                <a:lnTo>
                  <a:pt x="24176" y="16144"/>
                </a:lnTo>
                <a:lnTo>
                  <a:pt x="19024" y="16144"/>
                </a:lnTo>
                <a:lnTo>
                  <a:pt x="19024" y="15221"/>
                </a:lnTo>
                <a:lnTo>
                  <a:pt x="20312" y="15221"/>
                </a:lnTo>
                <a:lnTo>
                  <a:pt x="20312" y="9129"/>
                </a:lnTo>
                <a:lnTo>
                  <a:pt x="19024" y="912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ack or Previ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Forward or 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8101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16256" y="3794"/>
                </a:lnTo>
                <a:lnTo>
                  <a:pt x="16256" y="17806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egi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>
            <a:hlinkClick r:id="" action="ppaction://hlinkshowjump?jump=la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14594" y="17806"/>
                </a:lnTo>
                <a:lnTo>
                  <a:pt x="14594" y="3794"/>
                </a:lnTo>
                <a:close/>
              </a:path>
              <a:path fill="darken" w="43200" h="21600">
                <a:moveTo>
                  <a:pt x="26944" y="3794"/>
                </a:moveTo>
                <a:lnTo>
                  <a:pt x="26944" y="17806"/>
                </a:lnTo>
                <a:lnTo>
                  <a:pt x="28606" y="17806"/>
                </a:lnTo>
                <a:lnTo>
                  <a:pt x="2860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493"/>
                </a:moveTo>
                <a:lnTo>
                  <a:pt x="18101" y="7493"/>
                </a:lnTo>
                <a:lnTo>
                  <a:pt x="18101" y="12828"/>
                </a:lnTo>
                <a:cubicBezTo>
                  <a:pt x="18101" y="13751"/>
                  <a:pt x="18902" y="14482"/>
                  <a:pt x="19938" y="14482"/>
                </a:cubicBezTo>
                <a:lnTo>
                  <a:pt x="21600" y="14482"/>
                </a:lnTo>
                <a:cubicBezTo>
                  <a:pt x="22636" y="14482"/>
                  <a:pt x="23436" y="13751"/>
                  <a:pt x="23436" y="12828"/>
                </a:cubicBezTo>
                <a:lnTo>
                  <a:pt x="23436" y="7493"/>
                </a:lnTo>
                <a:lnTo>
                  <a:pt x="21600" y="7493"/>
                </a:lnTo>
                <a:lnTo>
                  <a:pt x="25108" y="3985"/>
                </a:lnTo>
                <a:lnTo>
                  <a:pt x="28781" y="7493"/>
                </a:lnTo>
                <a:lnTo>
                  <a:pt x="26944" y="7493"/>
                </a:lnTo>
                <a:lnTo>
                  <a:pt x="26944" y="12828"/>
                </a:lnTo>
                <a:cubicBezTo>
                  <a:pt x="26944" y="15596"/>
                  <a:pt x="24368" y="18155"/>
                  <a:pt x="21600" y="18155"/>
                </a:cubicBezTo>
                <a:lnTo>
                  <a:pt x="19938" y="18155"/>
                </a:lnTo>
                <a:cubicBezTo>
                  <a:pt x="17170" y="18155"/>
                  <a:pt x="14594" y="15596"/>
                  <a:pt x="145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2:24:00Z</dcterms:created>
  <dc:creator>tb121644</dc:creator>
  <dc:description/>
  <dc:language>en-US</dc:language>
  <cp:lastModifiedBy>tb121644</cp:lastModifiedBy>
  <dcterms:modified xsi:type="dcterms:W3CDTF">2005-05-25T12:24:20Z</dcterms:modified>
  <cp:revision>1</cp:revision>
  <dc:subject/>
  <dc:title>Slide 1</dc:title>
</cp:coreProperties>
</file>