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41982"/>
        <c:axId val="82121104"/>
      </c:barChart>
      <c:catAx>
        <c:axId val="30341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1104"/>
        <c:crosses val="autoZero"/>
        <c:auto val="1"/>
        <c:lblAlgn val="ctr"/>
        <c:lblOffset val="100"/>
        <c:noMultiLvlLbl val="0"/>
      </c:catAx>
      <c:valAx>
        <c:axId val="82121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41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DE9-4135-4506-92CA-26ACF5E6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3CB-A793-4268-9408-CDE909F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EE0-1951-4686-9BDE-75F615A6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3A8-AD08-4483-9D1E-FB40C97C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619-9F81-40A9-8235-5EC9EDB2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F9E-B857-4F4E-9DE5-E3084BD8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F27-1D2D-4558-868E-6D3AF72A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B44-65E7-4825-80C9-D008B82E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8F7-4252-4CAF-8F4E-AC5918B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19E-E64A-4564-A619-CC64215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74C-D6E1-46A1-80C2-21B0854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721-E538-43C0-B71F-CC28EE12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3C804-E59A-45B6-87CC-9C342E78B4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