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21773"/>
        <c:axId val="28178484"/>
      </c:barChart>
      <c:catAx>
        <c:axId val="51121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78484"/>
        <c:crosses val="autoZero"/>
        <c:auto val="1"/>
        <c:lblAlgn val="ctr"/>
        <c:lblOffset val="100"/>
        <c:noMultiLvlLbl val="0"/>
      </c:catAx>
      <c:valAx>
        <c:axId val="2817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1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3C8-A923-49A7-AD66-2CF97C83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8D8-432F-4BB4-9AB4-C019CCD9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4B7-65EA-4AD9-B427-17008336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DDA-4242-4699-A0FB-4050D550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100-5495-4804-9645-A4DC379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0F2-2878-4E75-8862-68A9AF6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740-A735-48AB-A0A9-C2DC66C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B1C-CF9F-4B8C-A598-0815ACB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E39-98D6-463E-9B59-515A4F5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E93-CDCB-4160-8864-AE50AF8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087-C8F2-41E0-AFF4-3B1E65D5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CD9-470D-4B9A-900D-6FB0D39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4CF1-3F80-442A-AC90-50D60EC183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