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331154"/>
        <c:axId val="82872747"/>
      </c:barChart>
      <c:catAx>
        <c:axId val="583311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72747"/>
        <c:crosses val="autoZero"/>
        <c:auto val="1"/>
        <c:lblAlgn val="ctr"/>
        <c:lblOffset val="100"/>
        <c:noMultiLvlLbl val="0"/>
      </c:catAx>
      <c:valAx>
        <c:axId val="828727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311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AFB0-062B-4C3F-B91F-40362780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8ECB-4FF5-4D66-84C9-029D55EB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CB53-17C9-4684-9E64-44493DF2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5CF2-88CC-4F24-A731-F3E4C3656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B96F-B4EB-40CA-BF70-154C9420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A5C6-77C6-429A-B7E6-8A0AA21E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7F8D-B81A-4192-954F-FFB34AB9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40DA-2EE9-41B9-A04E-3F6B6FB5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4956-BD35-4E9F-81C8-88F0FFF5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2B51-4DAF-476F-90EE-1FAF16B3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3A94-2453-4085-AF27-861C6277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6C3B-0407-4036-9729-CE19F8D2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03FE8-411D-4EC6-80A4-BB1DFDFE58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