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49995"/>
        <c:axId val="26825187"/>
      </c:barChart>
      <c:catAx>
        <c:axId val="44449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25187"/>
        <c:crosses val="autoZero"/>
        <c:auto val="1"/>
        <c:lblAlgn val="ctr"/>
        <c:lblOffset val="100"/>
        <c:noMultiLvlLbl val="0"/>
      </c:catAx>
      <c:valAx>
        <c:axId val="26825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9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C32-FA3E-4460-8D79-DC2C2EA5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830-84DC-4B55-B74C-FAB4E35B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AEC-DE42-4D79-9364-E853A125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838-8E7E-4CD3-AB28-65AF481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D658-A758-4E87-89EA-EFDC3EDB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C21-1026-48C2-BFE7-F2F9C393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4F4-ADC3-48C2-AFD4-54F27D77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901-E2C5-4960-A2F8-132C5AFA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015-3DB8-4630-8EA4-0F2DD3E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DCF-82D7-40D0-985D-68E11F36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AE7-5820-4B00-ADEE-AFC5481C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C2A-F6A5-4264-8247-105BC76C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318B5-C858-4F29-8928-677072D86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