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71647"/>
        <c:axId val="6146743"/>
      </c:barChart>
      <c:catAx>
        <c:axId val="78071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743"/>
        <c:crosses val="autoZero"/>
        <c:auto val="1"/>
        <c:lblAlgn val="ctr"/>
        <c:lblOffset val="100"/>
        <c:noMultiLvlLbl val="0"/>
      </c:catAx>
      <c:valAx>
        <c:axId val="6146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71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F56-D490-40EA-A4BF-26CCF264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4A9-6AD4-4E30-BA34-5F22903C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62B-B4A0-4FAC-8EC1-2275B2AB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942-FDA8-4AC5-AD3C-D1029146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8BD-A77B-4F26-980F-45A0D2B4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A21-6208-46C8-97B7-3C32A2F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DC1-5F87-414B-9C8B-823ECB4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F1C-7B54-4F76-A37D-07CA7E7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55C-1A9B-4C57-AE5E-52B5A9F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446-925D-45EA-99EC-EF5F1D4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CB2-1479-401D-8EDF-4C7478B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438-E5CA-4E4A-B3E9-EC0C503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45A29-2CB5-4F3B-9C93-BFB3687E8B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