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37653"/>
        <c:axId val="91253990"/>
      </c:barChart>
      <c:catAx>
        <c:axId val="92037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3990"/>
        <c:crosses val="autoZero"/>
        <c:auto val="1"/>
        <c:lblAlgn val="ctr"/>
        <c:lblOffset val="100"/>
        <c:noMultiLvlLbl val="0"/>
      </c:catAx>
      <c:valAx>
        <c:axId val="91253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37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A63-F437-41DD-B9F5-03ABF5A1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684-E3F1-4EA7-97C3-6915025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F6C-EA33-4678-B5D5-800B4A2C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07D-51E3-4D4F-8E3B-2CA45D65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E87-436A-4A95-B7F8-4FA965B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BF5-CE20-43B7-9991-DB38CC33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394-20E0-42EB-9CC1-6598B938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E87-4337-4832-81FB-620528B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C38-0822-49EA-B725-9D9EF3BA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302-3979-441D-9C2C-F718DABE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BED-DAF0-47D7-8DCC-39CFA0B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BEA-246A-4F08-9D86-D3C9381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1F1B-3DB9-4C85-91AB-29912E308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