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1592"/>
        <c:axId val="6456178"/>
      </c:barChart>
      <c:catAx>
        <c:axId val="941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6178"/>
        <c:crosses val="autoZero"/>
        <c:auto val="1"/>
        <c:lblAlgn val="ctr"/>
        <c:lblOffset val="100"/>
        <c:noMultiLvlLbl val="0"/>
      </c:catAx>
      <c:valAx>
        <c:axId val="6456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3C0-A8B1-4852-A2BF-147EB438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0F2-5936-4252-ABB7-DA384475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1F5-ADD8-455A-96EE-61F98B7E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A5A-89C3-4EDA-9398-26F3F507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F6B-ADC3-4BCB-ADEB-2445DC20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001-1252-4840-86F7-5BD868D4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033-C6BB-4501-8F38-14721EDC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8AE-2707-44A0-B9A6-0648D8B9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46A-D9F9-4EE5-8A25-BD749760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5FA-E7BB-45DA-9E06-B0E33201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3B2-836A-4979-A0FD-2E66D26C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967-6362-47F2-BB85-4C2AC6C4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B0198-8E3E-4A1C-934C-108AF685A1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