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72213"/>
        <c:axId val="74320937"/>
      </c:barChart>
      <c:catAx>
        <c:axId val="68472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20937"/>
        <c:crosses val="autoZero"/>
        <c:auto val="1"/>
        <c:lblAlgn val="ctr"/>
        <c:lblOffset val="100"/>
        <c:noMultiLvlLbl val="0"/>
      </c:catAx>
      <c:valAx>
        <c:axId val="74320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2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2A8-EDEB-4B45-B329-A3E07866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C95-AC9D-49AE-A07A-F7BFDFF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2BE-E711-440D-9954-87319AE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9FA-D5EC-401F-9FD7-92D8E6B1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F9B-69D9-4AFE-B4BC-6C5E22DA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D5C-901B-4513-A470-FE2673B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ECB-04D8-4E81-9CC9-080858C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CDB-8683-4862-9D4C-6B6673B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6E0-7B5D-4B42-BD92-077BA294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16E-6A31-46C8-BD31-0E278840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DB4-33D3-48E6-A716-15A37304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DB6-BD43-4605-BD57-162DEF1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A9A2-08FF-4ACE-8135-27387EA8E1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