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25162"/>
        <c:axId val="13865618"/>
      </c:barChart>
      <c:catAx>
        <c:axId val="71125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5618"/>
        <c:crosses val="autoZero"/>
        <c:auto val="1"/>
        <c:lblAlgn val="ctr"/>
        <c:lblOffset val="100"/>
        <c:noMultiLvlLbl val="0"/>
      </c:catAx>
      <c:valAx>
        <c:axId val="13865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25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C92-CC46-444B-BEBE-98EF1FA5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B8-4E77-4A84-BCFF-7AAE8ED3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4E1-D7BF-460A-82AB-665AFA3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D29-BA9E-4BD5-A4FF-481F3808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F8E-9B74-4E89-B350-40D9BFC4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146-F1A6-4D5C-AE48-7F90E612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B84-F073-4CB5-A42A-02F30C0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CBC-3E68-4722-A8E5-45E62556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F0C-C85E-4331-8D71-F7D2C96A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C46-26BE-4C0A-8908-8DEC83B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E3C-3773-4420-A037-D339474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C53-5995-473C-B48E-567FD25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A204B-F05C-4906-AF91-280BD46C2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