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68563"/>
        <c:axId val="92159535"/>
      </c:barChart>
      <c:catAx>
        <c:axId val="24868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59535"/>
        <c:crosses val="autoZero"/>
        <c:auto val="1"/>
        <c:lblAlgn val="ctr"/>
        <c:lblOffset val="100"/>
        <c:noMultiLvlLbl val="0"/>
      </c:catAx>
      <c:valAx>
        <c:axId val="92159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68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743-94A6-4CC6-97A9-DADA5785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01E-37AF-4B74-804F-AB5B8766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79E-DDAB-4983-8FD7-EBFD2555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038-8D85-4332-891E-859D1354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4D2-54E0-48D9-ACB0-A47EBE43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D23-F61C-4513-BDDF-573C63E7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4F1-0048-4E72-838A-9F171687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2A4-C58F-4CCF-954E-797B84FE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DBE-4CE4-4F4D-B8A3-FECE14C9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8D1-FA80-4960-89D9-BA852CCA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8C67-287A-4590-9571-2FDA0F76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47F-44DB-4FF9-B84C-7B8C2309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21F11-8FB1-4629-964B-6195BB5015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