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478144"/>
        <c:axId val="78551506"/>
      </c:barChart>
      <c:catAx>
        <c:axId val="824781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551506"/>
        <c:crosses val="autoZero"/>
        <c:auto val="1"/>
        <c:lblAlgn val="ctr"/>
        <c:lblOffset val="100"/>
        <c:noMultiLvlLbl val="0"/>
      </c:catAx>
      <c:valAx>
        <c:axId val="785515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4781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8672-3A91-4DEA-996A-904C8EF2C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DE81-3B01-42A7-AB19-B80A8C5AA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45F3-69F5-43AB-8A6D-CD8045292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C4DA-B47B-40B6-93CB-1C7E26E30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D673-10E5-40E1-87B7-24E6AD159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3655-C704-452A-991B-E0002126C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8099-0832-4557-BE45-A13B8C5C1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18E7-A4AB-4A61-9221-C34FFB53C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0257-264D-44DF-9C3E-F1BAD606B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7BB3-8440-47B0-91BC-880E74BAB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7F88-A425-44EE-9F25-027D091C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DED8-5D4A-4927-9C55-58408541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A49FE4-6649-4457-B1FE-102AC514CC0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