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13984"/>
        <c:axId val="46825392"/>
      </c:barChart>
      <c:catAx>
        <c:axId val="670139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25392"/>
        <c:crosses val="autoZero"/>
        <c:auto val="1"/>
        <c:lblAlgn val="ctr"/>
        <c:lblOffset val="100"/>
        <c:noMultiLvlLbl val="0"/>
      </c:catAx>
      <c:valAx>
        <c:axId val="468253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139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4B9-4947-4FFB-8621-5D6A6EA0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B693-3E48-42DC-A0A0-86612AF9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5CC9-94A6-4A51-B691-DA8C7F06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8C8-9436-4BB3-A18D-F4F124AD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31E5-E8EE-4A04-B974-37AC93DF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89E-0004-4EA2-8037-4CE27250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AE2-4EEC-45FA-924F-66A3F6D1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C0CF-B72E-4419-914B-B7067098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21FF-5AA9-4C65-8432-3EB0A80B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6EC6-7D8F-4F34-B98D-207B5579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97C4-6B74-482A-84AC-A1954875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E9B5-CB16-433F-8CF5-A1EF8039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FFDD0-217B-4511-B3AD-9ED313A1CA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