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91814"/>
        <c:axId val="4033918"/>
      </c:barChart>
      <c:catAx>
        <c:axId val="528918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3918"/>
        <c:crosses val="autoZero"/>
        <c:auto val="1"/>
        <c:lblAlgn val="ctr"/>
        <c:lblOffset val="100"/>
        <c:noMultiLvlLbl val="0"/>
      </c:catAx>
      <c:valAx>
        <c:axId val="4033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918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422-0AE3-4E4A-BB26-18689E32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9FA-03DC-4EAA-BEE4-AAEBC4E4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3B4-B883-4CB3-8F86-1E11B25E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A2E-CA71-4A4B-B0DC-4A116898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757-4FC5-4080-8394-69797A4E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C0E-B38C-429F-BFD3-2AAB2B5F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2B2-EEC8-4827-ABB5-26A1BE1A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325-A56B-4A6F-8BCB-B237E4F4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3EF-B396-4B6A-A108-0FCB8312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ED8-666A-4A3D-9997-AE6813C3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E1A-38E3-4B06-B430-33500BC5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0A3-0344-4C3E-9369-381A0ACA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8494A-C39E-433B-819F-DE465D23BD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