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93159"/>
        <c:axId val="30546599"/>
      </c:barChart>
      <c:catAx>
        <c:axId val="25793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46599"/>
        <c:crosses val="autoZero"/>
        <c:auto val="1"/>
        <c:lblAlgn val="ctr"/>
        <c:lblOffset val="100"/>
        <c:noMultiLvlLbl val="0"/>
      </c:catAx>
      <c:valAx>
        <c:axId val="30546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93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7CD-F078-401F-A65A-67E21F7D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678-5C6A-4755-8C96-C0C43013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6AD-C7A1-4371-BA29-7072ED55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CA8-5477-4AFC-881D-9FDA9222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91B-ED2F-4B1C-87DB-4C726228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B51-B8EF-49D6-B351-03E2EE79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E9B-1942-4A20-9865-0A971187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91B-DEC4-4905-8EFF-2D2DE464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B06-ED2C-443D-ACC2-E85B7405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F29-F74A-42F5-869B-32DE2DB7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CED-807B-4C92-9375-30BFAEF2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433-BE4D-4486-9406-14BA3E98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CE4D6-57EC-44B2-A259-2A3EE0CA88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