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13806"/>
        <c:axId val="53727737"/>
      </c:barChart>
      <c:catAx>
        <c:axId val="47713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27737"/>
        <c:crosses val="autoZero"/>
        <c:auto val="1"/>
        <c:lblAlgn val="ctr"/>
        <c:lblOffset val="100"/>
        <c:noMultiLvlLbl val="0"/>
      </c:catAx>
      <c:valAx>
        <c:axId val="53727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13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B4F-A913-4569-8ADF-FF76E24E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29D-D60B-4F59-AA18-CC2EAB7D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24C-DBBD-4BE0-BD44-626A0BE1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3BB-B242-4851-BD32-427C55F8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9D8-2A66-44A3-A256-B5F0A5EC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A636-E5BD-4AC1-9811-DE1AB379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F07-CF4A-47E5-B526-89A20A36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FD9-228E-4428-8E33-A7636FDE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B8E-9DE0-474A-9DC8-901C9AFC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605-DC5C-458A-AACC-AA0E1F1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5CC-ABA8-4DBA-9063-2C20947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4F7-9AEE-4E49-AB77-D591AD0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86E32-8DBE-46CD-8270-81C77AFB2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