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34583"/>
        <c:axId val="56002079"/>
      </c:barChart>
      <c:catAx>
        <c:axId val="90634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02079"/>
        <c:crosses val="autoZero"/>
        <c:auto val="1"/>
        <c:lblAlgn val="ctr"/>
        <c:lblOffset val="100"/>
        <c:noMultiLvlLbl val="0"/>
      </c:catAx>
      <c:valAx>
        <c:axId val="56002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4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F7D-A986-4208-89F9-BB0BF116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92E-4224-4570-B7CA-ACBEF55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059-308C-4530-8F49-A48B212D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427-0219-4A33-8111-9CD993B8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5A9-5B67-4102-B411-3772B5AD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1FA-B692-42CB-920A-9F78005A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796-F53A-4B9A-8034-6E5804C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C2B-CDCA-4545-8493-52E2DBCB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CAA-7D5A-4DE4-9616-198F2D56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624-1252-45C6-9A15-9C52516A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6DC-582A-4E83-BDDC-35EEE8C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FCC-4D92-44F0-8239-05F6CB24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CB750-0135-405E-91D4-9F3FA17BFD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