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20037"/>
        <c:axId val="11944520"/>
      </c:barChart>
      <c:catAx>
        <c:axId val="76320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44520"/>
        <c:crosses val="autoZero"/>
        <c:auto val="1"/>
        <c:lblAlgn val="ctr"/>
        <c:lblOffset val="100"/>
        <c:noMultiLvlLbl val="0"/>
      </c:catAx>
      <c:valAx>
        <c:axId val="11944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20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799-4D26-4ED0-8CC1-F3FB5E76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F27-E008-434C-AD23-DD646A33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B59-43EB-4078-B76A-E31CFECB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2E9-C93A-4720-BD4D-A869B4FA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137-4060-4F7C-9CE6-95576EB4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C49-8B0A-431F-891D-6343382A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3B4-6F44-4224-AEFC-BF813C1F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C8BD-8D79-47FC-8B4E-B8479BDB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DFC-E283-4E02-950B-5CCFF6EF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507-55DF-4D81-B847-312628D1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124-8871-4FDD-8390-8493BA70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56F-DE7D-4611-A400-87621F1D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291B7-4108-4717-9BFB-27835E3EE1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