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13792"/>
        <c:axId val="92268915"/>
      </c:barChart>
      <c:catAx>
        <c:axId val="3801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68915"/>
        <c:crosses val="autoZero"/>
        <c:auto val="1"/>
        <c:lblAlgn val="ctr"/>
        <c:lblOffset val="100"/>
        <c:noMultiLvlLbl val="0"/>
      </c:catAx>
      <c:valAx>
        <c:axId val="92268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A2C-75D2-4F0D-BD90-D870307F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813-C71C-4A31-ACDE-ECE34EB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173-3A18-47FD-BD99-52E173FE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ED7-62DC-4F96-9582-B3225DC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8F0-1C72-40F1-9FFA-0125EA60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DAA-A078-44C8-9EF5-63C375C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47D-25B3-4DFD-B63B-2DF30670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9BB-5681-4057-8089-5B9BA69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75F-CEF1-41E6-BBF0-2C72EB7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075-77A6-45A7-870B-B2E11BB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F66-E877-4C63-8E4C-2113302C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ADB-C37D-450F-915B-C497E526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1C56-9925-4FB0-A7A8-6621DFCAC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