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41258"/>
        <c:axId val="13691394"/>
      </c:barChart>
      <c:catAx>
        <c:axId val="11941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91394"/>
        <c:crosses val="autoZero"/>
        <c:auto val="1"/>
        <c:lblAlgn val="ctr"/>
        <c:lblOffset val="100"/>
        <c:noMultiLvlLbl val="0"/>
      </c:catAx>
      <c:valAx>
        <c:axId val="136913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41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B760-3AB8-46B6-B9A4-3F6D070B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55E-49F1-43F9-B080-A7EBED43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1D5-05E8-43EC-8D29-91258337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A7E-3CBE-4B9D-8A42-2A40B9A0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2C1-061B-42D9-ADE7-A9FD13B4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9F2-6B9D-4082-8458-3C9A0D51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799-BB60-422D-8C9B-4375C7F4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8038-9813-4180-A892-166ABDA4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514-FA55-42F6-A2CF-88CC9FD2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05D9-D45E-4EA9-8DC4-55FB7E94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4FC-94A5-4463-8AB8-07743982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CE4-8647-4110-8688-D02E9DCC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AFD49-3E06-45BF-B0AD-73FC7CDEEC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