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05973"/>
        <c:axId val="20756472"/>
      </c:barChart>
      <c:catAx>
        <c:axId val="66105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56472"/>
        <c:crosses val="autoZero"/>
        <c:auto val="1"/>
        <c:lblAlgn val="ctr"/>
        <c:lblOffset val="100"/>
        <c:noMultiLvlLbl val="0"/>
      </c:catAx>
      <c:valAx>
        <c:axId val="207564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05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AEB6-F83C-4624-863B-59798532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2F9-5386-485C-A0FD-8D261A95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695-B2B6-4E14-A1A8-D96A286A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1BC-C33E-4E74-8E5C-F091AFE6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529-B081-4EA9-859D-1223A64C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AE0-28D8-4D7F-95B9-D8F7577E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09F-F981-4B16-8519-96C311FA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01A-95A5-421A-B014-BC2A7121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2BA-A382-43BC-A1C4-E7579400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00C-792B-4029-8558-5CA6E661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76A-EEE4-4F11-88D1-90F9F50C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9B8-E875-4241-BAC8-A4CB7AFB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105B8-B086-4EA2-AA65-0C07F4F15D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