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6AB09E-CC98-446A-9249-E62FB5B8E9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83AFFB-2253-4173-8926-0F76B779D9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0B3432-2042-4DB1-971C-11069AF357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D05E4C-68D7-4F75-9D91-1CF942E1BC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41DA7CA-6846-4442-AB80-ECA17605D5B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66995D-BD65-46AE-B630-8BC4992D9C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969BAE-2540-44F6-AAF3-BED9A483F0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BB3D35-2393-4CC1-BC2F-1F7F3B467F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7DD646-90AA-4188-81AD-581B615DD0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823D67-8D0F-48C7-8256-465F62369B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B39202-699D-4A4F-8B41-6781142DEC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877759-3611-4CA4-8F27-94D7A11AE8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9E3391-C766-41D6-934B-23D6559E01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91B1B9-CDDC-461C-8A62-F9D5E70A5C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F8563D-2843-4D97-A0C2-0B2559D6A3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9C3A030-F838-4A92-A9DA-A2E05776B01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89C153B-6399-48A1-AA18-E2440D308DB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2C4A18-8EE4-4156-9B7C-C971328756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DA0E76-1BF2-4918-9FCA-92D46E06FF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6F4B77-DED8-4A9B-8F8E-A28A14C187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D56E6F-915B-4E4E-9D1E-850FEEED37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BE7727-5855-4962-9A6D-FFA6177129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311E30-5A3A-4A45-87F7-EC41ACF64C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0179ED-0DC2-4CF5-B780-FCE2BB1FB7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B422B0-867B-4F08-B7DE-870C38A8EFF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8ABBEC-90D6-420A-9EF3-4B58CF59D9E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5A283AD-EBDC-4A41-8AAC-965C0B51C5F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DEDA12F-6776-4819-8A37-33175D88D038}"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31CF34-4291-4BBA-ACEA-BE831BC599C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A074DA-5112-4C31-84A2-0745DED06A5F}"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7CC185-4300-42F9-9474-3CE9B04896E2}"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8CA471-51C3-40B6-9BFB-FC1890B22D22}"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F9E220-BB33-4E3B-9171-299F536DE98B}"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844C7E-F6CE-4148-93F2-40C4A4314EED}"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A63EAA-3ABB-4AC2-9AD0-C718B571A398}"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3C84F8-200D-480C-8281-723C4651CA12}"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96FA40-6C1A-42BA-BA75-8926E3876975}"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C5EF98-4E5D-4F74-997D-C8CC144E836B}"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98BDF0-00A8-44C3-9103-BF274ED43399}"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4F66C0-DC0A-43C0-AC43-6B9A80EDFA1C}"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1454E5-625E-4A7C-ACAA-73A748D3FC92}"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B94163-A0B2-4BFF-8C9A-5CE393552A98}"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F3F8C6-0EAA-4B80-9842-CA919F124760}"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0A1CB4-4E26-4277-A56A-6D501FF97B2F}"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C90C12-6ED6-46C4-9FBB-0AAA0A2DAFC9}"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BF2685-C103-4DAB-B290-87A4FA3EBA48}"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103A84-053C-4DC5-86F9-46FE9A9578B9}"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F82C39-2CAD-4766-9C84-5B03327B11DC}"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C26A16-D779-4803-9BB1-DCF7193AD4A4}"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37EB92-75D2-4DA9-BB4F-EE49D1B063C3}"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9B7C3D-DAE6-44AE-A90D-EDFAF1C79B23}"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98E123-E8B9-4678-8903-EED72FC441A9}"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226FA1-2FC9-4592-AAAB-1CD79AE50A54}"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16F5F92-F8F6-4996-A63B-31A4A2DFF667}"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EF0CF0-F5EF-4E92-9E15-1CD6A9FE9F89}"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81E8C0-BEE2-4741-AD34-D39267727A2D}"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3FA303-86EA-4AEC-B5E6-90F9A1FFAEA6}"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16A39D-EC0C-430B-A95B-2EFBB1C39FF9}"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80D65E-BC0B-4F4E-92EF-02D1B342DF01}"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D41B5F-B692-4F1E-BD61-44230302FC8B}"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271760-03B3-4771-98F5-581ABEFD2077}"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771A71-6158-4DDC-B452-0E5CA4745132}"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B252B0-A137-40D0-953D-BF9E6E54C1B0}"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19361C-300D-4420-B04C-6913527EA493}"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0CF468-AB73-4AFD-A215-75A3BD7F0424}"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337B49-2D57-44D0-85BF-54FE56F20E8B}"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1231CD-1806-4F31-BB68-4DFD7B915ADC}"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102E5F-A10F-4E7C-B010-BFB110144A5B}"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1C1FCB-2DBE-47C5-AC4F-9B2CE0D847A3}"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D29EDA-237C-4D22-927F-AED675470A7C}"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6440E1-E4FE-44FD-B861-88BE45ABB69F}"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51304D-A832-4479-8A19-EC7E870A4880}"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E569D5-CC57-42E6-A9E3-DA50DC5E0110}"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98F91D-3419-4287-8485-635BA41DAA1B}"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6A87F84-353D-4D2F-9067-91F9646E6BA2}"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E25AC9-E9F2-4BDE-A15E-C09252D50447}"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95C92E-FA5F-42DB-80BF-CCD321B2A6C9}"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068ADD5-47ED-4D77-A207-A7F7E00D0339}"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B7DA81-AE65-4F5D-B454-0C7D943AF793}"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C5014C-631C-4C16-A1A1-F38EE9C30B0D}"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32E5C5-B9C7-4756-895B-48E9A6668BE0}"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93EE36-5A08-4734-A617-12E969F7EB20}"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D6763A-2404-4EDD-911B-A491466B5708}"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907CCA-6EC3-4091-8FFA-E8C71B607DAF}"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525B24-4E76-4E0E-81D5-556CBB2D6325}"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4BB0ADD-E32C-47FD-870D-69D1CE7394BA}"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173504-80EC-4FF6-84B9-FA26C36D060C}"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93B088-1B21-4BB7-9529-C137751865A4}"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330C49-AD35-4809-8B33-99FB1F24FD68}"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21A969-44A8-4471-8FF1-A1D9F9BA6B48}"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296C1B-4CEF-4EF4-92B8-06AAAF9A76DA}"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A5630F5-790D-4B40-BBA7-9BDF2F16929F}"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DE0D73-8228-4881-B444-D4EFFF8BE616}"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7C1C37-72A9-45DB-AF28-B51B97C0ED7A}"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42E58A-1C24-4F90-B59F-AC43AE421821}"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62A673-0BA0-4891-946B-CF293691CDBB}"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F08DC37-7757-410F-8C01-7410448AB113}"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D2341C-7597-48BF-84CC-BEFEA75D9506}"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4933EC-8D2A-4D3B-8C31-284EC96E23C9}"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A01E2B-1B43-44F4-BE8B-E5736A3779AB}"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B9A6D9-CD3F-4C2B-9317-1D7089635408}"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084F87-C6A8-4C2C-97E1-956054E0DD6D}"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91E74F-6141-4ED7-B11D-A3595E6DF5E0}"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BF7106F-698B-4D4D-8324-D062F1B11E8A}"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CC6C7C-9E34-4264-9AF0-47B8DBA1CE92}"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08F95A-FD44-4B87-AB61-9501F7DA3016}"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C55017-1ECE-4F31-856F-C022CA3E71B8}"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A68E76E-A2BF-4416-9C60-DC102C4BA7BD}"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429E04-8112-45B8-9987-734665C108A5}"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F7FA36C-5E9D-44A4-8335-ED9716ABC67C}"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8379A4-E363-4D40-909A-956B9CDE5275}"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B6B167-CDAA-4058-AA44-88F28F361A3D}"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D33D8A-62B7-4207-88C6-9F59C4A6F797}"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5B2758-F689-459B-B55F-CC18C06D2C5E}"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4BFC89-A03C-4FFB-BC97-96D6DFF86552}"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C78A7E-4F44-4D76-AF8C-D5CA2C1F229E}"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01AA43-AEC1-4F92-9482-709416785F94}"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4946EE-F823-49B9-9630-12E221060CFF}"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11D6E8-98EB-4C76-B4CC-61E876EFFD2F}"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7EE5F6-1091-480A-94BA-6F9BADF58015}"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078E71-29B9-43D4-B519-84945C563069}"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B924A8-1E1F-466D-901A-C4CB0668BB26}"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9EDB91-E4F9-470E-ABDA-091D47AF5F79}"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58C603-92FD-4873-951C-80548C409A62}"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16CC15-373E-4B92-9DD8-315051AFAC4F}"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18F0AEE-1933-4C48-AE6F-71D2FC065B2D}"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0DDE44-AA6E-49A9-9FA1-61797F32B8E3}"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2B43DC-7081-4F29-A611-0AC1852BB4DC}"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7C3F4A-CDB0-4694-BF83-78DA11FC39D4}"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016C1B-7D03-4BA9-88C5-610DD29B0886}"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1F2867-62FD-4BA1-B67B-789CC8658E39}"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215736-4561-4879-9DD4-74AC9A722542}"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887D44-82F5-4009-AF99-AB20411A7119}"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2AAD52-034D-4A27-ABC6-8BB43186677C}"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D2F6C2-8590-45CB-9E12-8E4E4BA5F912}"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62FFAE-1637-41DF-A1E4-13D61B38FAA6}"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B653C2-F354-43A1-9A02-A0729CD7ED1A}"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2FD24A-10F0-4C45-A006-9472B3548EB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62F9EC-B9C2-4321-BD98-8DCCF87DFAA4}"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AB92E4-6687-45D1-9640-3930ED7F9E54}"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185BD2-8831-4F34-865F-32D660847B3E}"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F91D05-6078-4EAE-B52E-DD92DCC70150}"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66345E-9332-45C4-88D7-29FE17C3811D}"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0460E9-8D07-4091-9F0E-384E2A61B07E}"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4029FB-597F-4499-A355-780A8AB4A4EB}"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4F5E43-467C-4144-A6DC-5658979E3DA5}"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A63FC1-3A69-43A8-B29C-221B515F7CEE}"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EB7154-0AA3-4CF3-8A13-7FA6D43FC2F7}"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454410-1F44-429E-992E-91947534681F}"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ABF49A-40DB-4488-B536-B4D8E0415C35}"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54BF9C-6F5C-4646-A1DA-3DCDD6556549}"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FC33B4-7569-45DC-AA7A-475901B42A7A}"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C7783F-4A75-4574-ABF2-CC67E3A5FBB5}"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1641EB4-2935-4CE8-88C3-3C439520F4A8}"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6FEECB-B3EC-4773-A05C-F82459F3E45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B14A8D-DF76-4A1B-962D-FFB0006F1C2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01AB3C-B582-4AC2-B75B-7C4C2DBA51A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9CC3D8-6EAC-4931-B2D4-8F88F35A494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732C06-2310-4311-B592-D99E43CFC8A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128B21-A264-4EF3-BF4C-CFDE2C60610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F72D706-E97C-4BC3-9398-E16B11F0852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452913-0677-45F9-8730-6E175CB3B84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7077AB-886A-415D-BBF8-56B9114E6FD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34A4E8-334E-460C-AAD8-8254B4365D4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DA62B6-F33E-42FF-ADAA-3DB2DA5680E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D7FA0A-9B37-46C5-B225-D8529198E74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ED8562-8363-4EC8-895F-53A646EE5C3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2A1271-F5E3-4914-8A58-C136574BCF5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683376-8F55-4ECA-8773-80B2E0A66A9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7BDCFD-CB60-4950-BD4A-7C1E03F818E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B81DB3-CB40-4343-9452-B2A48B5F0BF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E8F2A8-F689-4DC5-8E04-0E1B95CC058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43C27A-7A75-4E12-801D-1464F27D927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7A6E61-E78D-4B8D-AAE8-A9837334358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6FCA71-9B04-42F5-94E5-283739B6F31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F143EC-9068-460E-86BE-8EDE1E0A060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BF148D-1B30-47DA-B3C9-A24C82D7C58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2F2C2B-2892-475B-AD76-F65AC6C5EFD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0247D2-2B56-4AC6-A7D0-59E00DE651D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6B7F0F-6E31-4E20-A6E4-9C9EAA7EDF9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E66447-103C-40E5-BD33-C0EF79CB36F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8D574C-5324-43D0-99A8-197645E2C56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6A0687-1B29-4659-8941-59AEA2685B5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E47519-4BF1-49C4-8F16-5DDC8659416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C770D4-137B-4472-A144-8F9A08E92F4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17E7D3-A897-45A5-AAFB-14CFB694D79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FA3EC0-3AE7-4D4D-8529-F31B4296C2F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8A0329-94C4-47CA-A408-CC30A4D3F4B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33B09E-97AA-44B2-AF8A-BC6B0C1A4F6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90BDF4-4BB1-4AEA-9DF5-5EA7D6DAAF9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52733C-4238-4700-B8F7-C0470C1BFE1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515E7F-03A7-4A18-9EC1-15C57566AC9C}"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5FED0A-E3B9-4B96-BC38-F9BA94053FDA}"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362F3C-0E5E-4092-9BA0-980709C410D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0AFFE7-AAF4-431A-AD53-5DC21B14F4E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7EB857-4BFD-4AD7-AFAB-09F8EC18704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6716F5-365A-4E60-9B53-C33E2F94136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1604FA-4569-4E89-8379-D9EE2280FA8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10E86E-376D-4713-8AE7-F80DA3CFFD6C}"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967CFB-E396-4436-BB1E-819E2E4ED67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72FB53-A4C7-4363-A50B-3ABCBAFF8CC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5E9BABD-45C8-4F81-8731-17E7D534FA22}"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F7F4C6-EB8D-417D-82C5-8D07F57A6239}"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087499-C3BA-4542-8403-9A5EEB9DA857}"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226BF6-D01E-4EEF-A1BE-A3CCCFABB3FA}"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D11F38-1613-4D68-BD0D-6671010C807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668E16-6D2B-44E2-8CDA-E6E5A839E8A5}"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0259CB-C804-456A-AA34-6CB2595083E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E8965A-B998-4E81-8DD6-2FCB3497FD9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C3B220-A838-47AF-BF27-71C047BBDB5D}"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DFCE169-51D2-4434-BC8E-66D036DDFE7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2C34D9-66D0-4C67-BCFF-B53A3380F073}"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4D22B3-FC3E-4B9B-98E8-165A5159A3A2}"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563AE0-3EEC-4C1B-80F9-C6F1E001A854}"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EF2F74-2FEF-4B62-8618-162B5F4EEE8A}"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3A9F34-4433-476D-8279-49B7A740718F}"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72A255-9BF6-46AB-91C7-B1069AE38F46}"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9E8DF9-0446-47C6-B88F-A72C5A8F5F1F}"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27715A-EF28-4490-8966-568DD10E947D}"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D5254A-C6FD-4479-9D00-6AB1FA89B788}"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18DF13-C2C5-40B4-8672-605662A477F3}"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023A44-9638-4AFE-AE8C-67E00F4FFEFA}"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532FE4-710D-47DB-BEF4-700C485C8BC2}"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172E68-AD6C-4469-ADDC-1C3E411D4F02}"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03CA84-0E9F-4433-8C70-3D346BC0775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57FF274-0199-4C88-8573-3BF13B46EBB2}"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8AD627-F093-40E4-BB3A-D267C26E43DD}"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1F3A6C-817D-4759-A92C-A8E84A25EB7F}"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8E74B9-C442-496F-98B7-DA28033211C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53900C-879F-480F-90A4-F084EB701B0D}"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2EC156-576F-48F0-B488-EADBC429B92B}"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517D44-3ED4-4CD8-A314-89D32703755D}"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92EF50-E781-4F4A-9689-C589BBD33281}"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9F995F-463B-4242-98FA-A0ED2B38A15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BBF2E1-7669-49C3-9E1D-5413545BC69C}"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B3E891-82C9-4E1D-8822-085963533A18}"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030238-2962-4861-8841-F304FB2BBD18}"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947EFC-84A8-4A0B-8132-7E1A92E1175C}"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9DC650-326F-46C2-AE36-26FADDC7AF39}"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