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054837A-C066-42B8-846A-56B6C17A6BFB}"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DA95B89-C35F-4ADF-BF2A-8F04CC88809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5B49616-F5DF-440B-A691-4169A936511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C6B0B11-B927-4D02-9C4D-10AD653C8B2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208B95D-FAB7-45C5-A60D-04BDA4303F3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FB2F428-CDE5-4871-9FA9-2DB9871190C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AEFF80A-4617-41A1-9127-F72EA7F8771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D55886D-E70E-420B-8338-56A386F116A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1491664-A195-489A-82DF-EE615FEED2A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FA38949-8D6A-4D72-809B-8361F200AE5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E7EFEDE-DF92-4255-BAF5-E12544BA728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E0A56C8-370A-42FB-BE08-4D9F1E3954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48251A-C7AB-4019-A665-50F16915D3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A84E860-09B4-4A7A-87DB-E7D42750C3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98354F4-D5EE-447C-BDAC-B29B8AB121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9BCB01D-99BF-4DFD-B0CC-A495914982C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FF04F14-165F-4F06-8BE0-28322D77885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B1D7C4E-9B86-48F2-9D2A-3C0E043C4AB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8E2F43A-D7DC-420D-941D-69399B644A0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37D85AB-B421-4591-96CD-0DC8FE2DD2C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7D6D629-C531-4DE6-8BF9-F3D4AAF77AE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192B626-F0AF-4B11-A819-66D4B24857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F7532B-6C2D-442C-8BD3-EA4180B638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4C5B234-EB5D-435C-87C3-30D75C7D1A8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21D5449-A6E9-4D20-8691-938441B132A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B005476-182E-4C7F-8CBD-4B05C2CE927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B90D15F-3F9B-44F0-B754-3532D955B2B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452BA5E-46CE-4A71-9719-3E93F56AD6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BCDC232-5486-4918-B208-FC1160D428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0CE0F4-1F5C-4D8B-BC01-9473D9EDFE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EE2FAC5-F4AB-4B12-B467-90DD6DC0C5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A0B4064-E7E9-4830-A14E-1483FA7F18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679649-B24C-464C-A7F7-9429360C4C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89D680-902F-4E10-BF8D-E978ACF98E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971409-19B6-43EC-847A-FEF34416BC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CE41D-640A-4EDD-BB73-3933663E8BF7}"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BCA60-DDFB-4A54-88AD-9A412409CC52}"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6C84FB13-3A6E-4680-A1B9-1A29DD407D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1198C5A-C144-4A0C-B9DF-8857C21DAD1C}"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7FF0C91-7A4D-4605-9135-FB82EA565560}"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765A25C-3BC0-4B32-8F26-E1AE055B085C}"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DD8DC75-10AD-487D-866B-EE090A34A7CE}"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0EF2B7B-7D4B-46FA-9DB9-6782341EDCC6}"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9AAB120-2F65-4F32-A4D1-C5C6AA106DFD}"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88CEB9F-2C5C-4FA5-AE15-FC95706EAAFC}"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1C5AB6F-7EF2-4BBC-A618-CAF2F62FBD63}"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F4B664F-18ED-42C4-965C-448CB655974E}"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F589743-F137-41B3-B102-49D67C1EBD02}"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29410B6-C961-40BE-B264-52D54406E3C6}"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45DA672-54ED-40FE-93F3-E060475C7B8B}"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0E99617-4201-4D45-8580-C220EBF510A1}"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22A9068-DC2F-4214-B45D-73FC14E875FC}"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987A48F-95C9-4148-8D23-B67BA67F70DE}"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BA0D7B8-6EE8-4CD9-BA96-BBD31847CFFE}"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A4EB519-E4A5-4496-9E34-443D9EC573C1}"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319657D3-5758-46B1-8097-D6851BFC45B9}"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58D2F3F2-0D43-4464-B7E1-7773611D9716}"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B371765-B25E-45B0-877C-A0D62E1E45D3}"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1F7FB36-5AFE-4E61-9CAC-09806F36221E}"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58D1D14-F118-4E44-AD32-2457EB99797B}"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A36A305-6801-4A15-A59A-7A1891153EBB}"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0BDF37B-D67F-4692-A0B4-068D1E4EFF8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259C47A-3088-4BB2-8BB2-ED1B66F7C927}"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BDC7052-B7AA-4DC6-AE75-17C52216438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D5CBD76-64E7-4A67-9F62-E5BA8CBA96B0}"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ECF45538-139C-485A-AA2F-D5781AFE12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C71AF6A-018F-4596-9D4F-21860AB90D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BA0CF56-8021-4C7D-B1CD-5901AC0D2B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E14BA09-2D43-45D6-AF7B-2EE25BD647AA}"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72730C1-7B29-4CEF-859F-342819492C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74FE149-90F5-4A6C-84F0-0684170768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C0AB648-BB9C-4D2E-B79C-6F12B9C45B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B5A9A32-55BF-4500-A06B-758131C15DC6}"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F506764-BDA3-4462-916B-89BF518C6A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F199B4F-A3C4-487E-9F65-1866F4F18D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52E2247-9F96-4A36-9F23-F9F4D022E5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6ABD268-9366-4768-A317-22C8DD76C53C}"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7C43876-B4F5-439A-9B33-A2133862155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F48D4E8-92FF-4166-BF27-54A9FBC2BB1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3DC138F-A7E2-447C-9788-3A036A946AE4}"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B23D075-06AF-448E-AEB2-9E34EBDA10F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A680849-1A8C-4B16-BEDC-EA3B294D42B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AA43B66-7C91-403A-9FEF-18D71C02DE9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93777A0-E8B5-4DC1-AC22-B367A619B15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76CE309-D69F-430C-BA97-1045CE4E608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A3D36E5-7BFE-4DCA-B36E-476583593C5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D4A4584-7CE4-45D4-A06A-2B006B533F2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F802858-FB4E-4FBC-BA71-2CF06E6B72E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43E2C9D-4D15-4CF9-A0B4-D868AF371F7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25931D2-8884-479D-868E-9AFE726C0BBB}"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1A68EF3-6783-48CA-A407-EF632BC2EE0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06C0AD2-95FC-4768-9622-E825BB95E19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6F53CDA-B260-4717-BECC-9BDAA8F6A05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9569154-71E1-41A9-BF8F-292421572FE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6BB9D41-C491-44BD-866D-4D7C1D76728A}"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47775C0-A182-4F9D-8EAC-4F3D3E399A13}"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23EA493-10C7-4774-9A42-1D46000FDA5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C702930-A19B-4F49-B489-9222382E4025}"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5E91F3A-6BF7-4C26-B597-79B9C8D2C085}"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6031D6B-F50C-4C1F-A8AE-768CCCD6A70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4AA8055-FD1B-4AAA-84E2-B5D9C95B414E}"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0635F83-C6D0-48CA-AF94-36F74BE87107}"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BD78696-D64B-4E30-BC45-79AC8C80A4F1}"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B2DB7CF-D65D-43E4-B2BD-B26D55E2D9CE}"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8214AE8-D909-49ED-80D9-430BF438F3D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2674F23-DF82-4C6F-B68C-054954D88D5F}"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FE1C8D1-CE28-4307-8FC2-71D56D0AEF0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DC76301-3D96-4EB4-9662-3A18E7E8F9D7}"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AF7D681-FE7E-44C9-9FC0-33531E8F9F95}"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0CC9594-2DE8-4239-86D8-40A73FB88DE1}"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D5273DC-84AC-4443-827E-2A0CA6418F3A}"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142DCF0-6452-4674-8653-B1B28DA8A846}"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0D28201-B901-4382-9D5A-EA627D0C20FB}"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8CEBEDB-9809-49B4-AC0B-92AC4E3515DA}"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5F2B8E4-2212-45A9-A751-4E961854E8B6}"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E4A39B7-B258-4A65-97F6-43B129AE30E1}"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CB0BB1C-D1AD-4F7C-936F-A05D7B5E50BC}"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191F649-B2B6-4F43-8381-232C11A68B8C}"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959B844-B552-4D83-B0AF-A9C9280029EC}"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2603B46-DB85-4E49-8FC4-5C9147977BED}"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B78E3D8-5FAC-459D-9468-735A131755E5}"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5EFDDF8-C9C7-4D6B-8F45-D136AB8406A6}"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E5941DC-EF7B-4885-AE49-EB51C4E59D2E}"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C59FF0A-92E4-4278-B7C3-F9D77FCB5E77}"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917E6C6-1643-4DDD-AA34-9D93FFC7037C}"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C770F8B-D815-4907-89B5-0FBE53C88020}"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C14C0C3-0950-4E37-A34D-67C60125705A}"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9944F34-E96D-4BF7-B660-B0D2EFD12876}"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8CF078C-B027-486A-9138-6E1955FB191A}"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21FC026-C38C-4AE1-BA6B-CAA6013C0A95}"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AA3C8D1-B8B9-4543-B20B-C66D57C59C81}"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E263A5E-3D64-4775-AFF3-ADED14738A5F}"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D532697-AA43-4098-9C94-BB6FBC3428F8}"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D1B4DE4-6249-4FC7-A3DB-519906AA1722}"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EAF570CB-030C-4FEA-A148-84623736BF77}"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B4E04AE-38B6-41EC-B085-95DA1819382A}"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5B70090-5705-48F0-BE78-F0C477DF7727}"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5A852AD-BF33-485E-B573-972ECB80C80A}"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99E2F30-D4CE-4CC1-B8D7-C75E3526B26C}"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35873EB-2BA5-479B-B85B-600CD0AC1767}"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FC98C1B-AB18-4B0F-A24C-38977E85D6BC}"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D5EE83B-F0DC-4F05-9C2E-C4431712C14A}"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32BAC80-88A3-4366-966B-436CF02FB08F}"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0400F98-0FB5-4BD1-8635-F26EEB721B98}"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BC28438-80BF-4FD4-8C19-192E49D91D02}"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53E2959-9426-4D7F-934C-D08EB04BD9AF}"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A1DC884E-DD55-4948-81F6-9665E4DF47FC}"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B8FAF0E-F1B7-4470-89F4-46DBD86F3259}"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A0392E8-BE53-4ADB-9F84-DD9537E8FF85}"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B7F23AB-036C-4122-96CB-4AE6BA7784A7}"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C59B121-AEA8-4F5E-94A5-674BE790DBA2}"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97A683A-2560-4E69-8C30-D52C2C77E8EB}"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2BDF8E5-9CB0-4FE2-9EE3-3CC43302BF99}"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15809E7-585F-4DAD-80DA-762E05DAE221}"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113ADC9-E297-4BBA-ABAF-9C7AF5878A1B}"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37960C8-DA79-4F38-9751-D6D8A5518450}"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F83C08A-47F8-45F6-A56E-01324F3EA38E}"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CCFD839-64FD-4321-B8CB-8B91BE11CD67}"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